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30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09480" y="1294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9216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09480" y="430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9216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748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6512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0948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748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6512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294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685800" y="380880"/>
            <a:ext cx="1447920" cy="505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87a"/>
                </a:solidFill>
                <a:latin typeface="Palatino Linotype"/>
              </a:rPr>
              <a:t>Click to edit the title text format</a:t>
            </a: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"/>
          <p:cNvSpPr/>
          <p:nvPr/>
        </p:nvSpPr>
        <p:spPr>
          <a:xfrm>
            <a:off x="5105520" y="561960"/>
            <a:ext cx="32004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53280" y="6234120"/>
            <a:ext cx="63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8BB3-9A0A-4F98-A462-89B07F8ADD58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685800" y="380880"/>
            <a:ext cx="1447920" cy="505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1" lang="en-US" sz="6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4572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1988640"/>
            <a:ext cx="8713800" cy="30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Water  Supply and Sanitation SWAPs</a:t>
            </a:r>
            <a:r>
              <a:rPr b="1" lang="en-US" sz="4000" spc="-1" strike="noStrike">
                <a:solidFill>
                  <a:srgbClr val="ffffff"/>
                </a:solidFill>
                <a:latin typeface="Palatino Linotype"/>
              </a:rPr>
              <a:t> </a:t>
            </a:r>
            <a:br>
              <a:rPr sz="4000"/>
            </a:b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What would it take to accelerate WSS SWAps in Africa?</a:t>
            </a:r>
            <a:br>
              <a:rPr sz="2400"/>
            </a:b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EUWI Finance Working Group</a:t>
            </a:r>
            <a:br>
              <a:rPr sz="2800"/>
            </a:b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Stockholm, August 25 2006</a:t>
            </a:r>
            <a:br>
              <a:rPr sz="6700"/>
            </a:br>
            <a:endParaRPr b="1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23640" y="5768640"/>
            <a:ext cx="73911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Meera Mehta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Water and Sanitation Program – Africa 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0948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upport activities by Water and Sanitation Program in Africa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o assist governments in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improving sector readiness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– approach and country process for sector financing strategies (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SWIFT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), sector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budget and MTEF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, and sector information and monitoring systems (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SIMS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) – adapt tools with lessons from country support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Country-owned MDG road maps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– support consultation process at country level to develop sector program and investment plan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upport opportunities for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south-south learning and experience sharing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09480" y="1557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</a:t>
            </a:r>
            <a:r>
              <a:rPr b="1" lang="en-US" sz="2800" spc="-1" strike="noStrike">
                <a:solidFill>
                  <a:srgbClr val="cc3300"/>
                </a:solidFill>
                <a:latin typeface="Palatino Linotype"/>
              </a:rPr>
              <a:t>word of caution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– areas of concern: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Readiness of donors – continuing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need for attribution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and recent reemergence of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fiduciary concerns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makes additional demands on SWAp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nadequate focus on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sector information and monitoring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– the weak link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Sanitation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ontinues to be a difficult issue – multi-ministerial mandates and lack of agreement on ‘right’ approaches make it difficult to ensure ‘sector readiness’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64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87a"/>
                </a:solidFill>
                <a:latin typeface="Palatino Linotype"/>
              </a:rPr>
              <a:t>Thank You</a:t>
            </a: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3499920"/>
            <a:ext cx="77724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87a"/>
                </a:solidFill>
                <a:latin typeface="Palatino Linotype"/>
              </a:rPr>
              <a:t>Outline</a:t>
            </a: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7772400" cy="38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reminder –what is </a:t>
            </a:r>
            <a:r>
              <a:rPr b="1" lang="en-US" sz="2800" spc="-1" strike="noStrike">
                <a:solidFill>
                  <a:srgbClr val="cc3300"/>
                </a:solidFill>
                <a:latin typeface="Palatino Linotype"/>
              </a:rPr>
              <a:t>SWAp and its benefits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essons from </a:t>
            </a:r>
            <a:r>
              <a:rPr b="1" lang="en-US" sz="2800" spc="-1" strike="noStrike">
                <a:solidFill>
                  <a:srgbClr val="cc3300"/>
                </a:solidFill>
                <a:latin typeface="Palatino Linotype"/>
              </a:rPr>
              <a:t>country experience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at is needed to </a:t>
            </a:r>
            <a:r>
              <a:rPr b="1" lang="en-US" sz="2800" spc="-1" strike="noStrike">
                <a:solidFill>
                  <a:srgbClr val="cc3300"/>
                </a:solidFill>
                <a:latin typeface="Palatino Linotype"/>
              </a:rPr>
              <a:t>accelerate / increase SWAp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in WSS?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nd, a </a:t>
            </a:r>
            <a:r>
              <a:rPr b="1" lang="en-US" sz="2800" spc="-1" strike="noStrike">
                <a:solidFill>
                  <a:srgbClr val="cc3300"/>
                </a:solidFill>
                <a:latin typeface="Palatino Linotype"/>
              </a:rPr>
              <a:t>word of caution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09120" y="1267920"/>
            <a:ext cx="8139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0480" indent="-420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reminder – what is SWAp?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20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70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Most significant public funding for the sector supports a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70760" indent="-350280"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Palatino Linotype"/>
              </a:rPr>
              <a:t>single sector policy and expenditure program under government leadership,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70760" indent="-350280"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Palatino Linotype"/>
              </a:rPr>
              <a:t>adopting common approaches across the sector, and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70760" indent="-350280"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Palatino Linotype"/>
              </a:rPr>
              <a:t>progressing towards relying on government procedures</a:t>
            </a: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70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to disburse and account for all public expenditure, however funded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420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alatino Linotype"/>
            </a:endParaRPr>
          </a:p>
          <a:p>
            <a:pPr marL="420480" indent="-420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ut it is </a:t>
            </a:r>
            <a:r>
              <a:rPr b="1" lang="en-US" sz="2800" spc="-1" strike="noStrike">
                <a:solidFill>
                  <a:srgbClr val="cc3300"/>
                </a:solidFill>
                <a:latin typeface="Palatino Linotype"/>
              </a:rPr>
              <a:t>not necessarily Budget Support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and </a:t>
            </a:r>
            <a:r>
              <a:rPr b="1" lang="en-US" sz="2800" spc="-1" strike="noStrike">
                <a:solidFill>
                  <a:srgbClr val="cc3300"/>
                </a:solidFill>
                <a:latin typeface="Palatino Linotype"/>
              </a:rPr>
              <a:t>Pooled Fund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are not a must!!!!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09480" y="1628640"/>
            <a:ext cx="77724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otential Benefits of a SWAp for the Client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Uniform approach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and rules makes consistent implementation and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scaling up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easier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trengthens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government’s own systems and enhances ownership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Over time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reduces transaction costs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for aid coordination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Enhances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predictability for external financing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treamlines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monitoring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and reporting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0560" y="1484280"/>
            <a:ext cx="856908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revailing WSS sector context in many African countrie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804240" indent="-3654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 large number of donors and funders – but with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own priorities and rules of engagement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, making it difficult to have coherent sector budgets and allocation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804240" indent="-3654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Generally a sector policy exists – but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lack of a costed program and financing strategy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, making it difficult to implement the policy, and monitoring continues to be the weak link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804240" indent="-3654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Enclave projects continue to be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islands of excellence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that fail to build up local systems, making them unsustainable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27280" y="404280"/>
            <a:ext cx="453708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87a"/>
                </a:solidFill>
                <a:latin typeface="Palatino Linotype"/>
              </a:rPr>
              <a:t>Country Experiences</a:t>
            </a:r>
            <a:endParaRPr b="1" lang="en-US" sz="32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Palatino Linotype"/>
              </a:rPr>
              <a:t>Uganda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– leader, successful SWAp, PRSC for RW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Palatino Linotype"/>
              </a:rPr>
              <a:t>Tanzania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– emerging for RWSS SWAp, jointly by government and donors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Palatino Linotype"/>
              </a:rPr>
              <a:t>Kenya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– reforms in place; systematic approach to donor coordination and attempt to address sector readiness (SIP, financing strategy)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Palatino Linotype"/>
              </a:rPr>
              <a:t>Zambia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– emerging experience for RWSS SWAp, jointly by government and donors, attempt to evolve sector readiness (financing strategy)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Palatino Linotype"/>
              </a:rPr>
              <a:t>Benin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- emerging experience for RWSS SWAp, jointly by government and donors (agreed sector strategy, financing strategy, monitoring)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Palatino Linotype"/>
              </a:rPr>
              <a:t>Senegal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– emerging experience linked to MDG Road Map (SIP, sector information and monitoring)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Palatino Linotype"/>
              </a:rPr>
              <a:t>Burkina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– emerging experience linked to MDG Road Map, Development of a Sector Budget Program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Palatino Linotype"/>
              </a:rPr>
              <a:t>Mozambique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– attempted but not successfully in the past,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Palatino Linotype"/>
              </a:rPr>
              <a:t>Ethiopia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– government has used the approach in the Bank project to guide sector investments and initiated work on financing strategy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50560" y="1197000"/>
            <a:ext cx="8497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SWAp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Palatino Linotype"/>
              </a:rPr>
              <a:t>Building Blocks</a:t>
            </a: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 at country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341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alatino Linotype"/>
            </a:endParaRPr>
          </a:p>
          <a:p>
            <a:pPr marL="434160" indent="-43416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Sector Readiness for SWAp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95960" indent="-361800"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Sector Policy and </a:t>
            </a:r>
            <a:r>
              <a:rPr b="1" lang="en-US" sz="2200" spc="-1" strike="noStrike">
                <a:solidFill>
                  <a:srgbClr val="cc3300"/>
                </a:solidFill>
                <a:latin typeface="Palatino Linotype"/>
              </a:rPr>
              <a:t>Strategy with Government leadership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95960" indent="-361800"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Budget and MTEF-linked </a:t>
            </a:r>
            <a:r>
              <a:rPr b="1" lang="en-US" sz="2200" spc="-1" strike="noStrike">
                <a:solidFill>
                  <a:srgbClr val="cc3300"/>
                </a:solidFill>
                <a:latin typeface="Palatino Linotype"/>
              </a:rPr>
              <a:t>Sector Program</a:t>
            </a: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95960" indent="-361800"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Sector </a:t>
            </a:r>
            <a:r>
              <a:rPr b="1" lang="en-US" sz="2200" spc="-1" strike="noStrike">
                <a:solidFill>
                  <a:srgbClr val="cc3300"/>
                </a:solidFill>
                <a:latin typeface="Palatino Linotype"/>
              </a:rPr>
              <a:t>Information and Performance Monitoring</a:t>
            </a: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 System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  <a:p>
            <a:pPr marL="434160" indent="-43416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Harmonization and consultation processe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95960" indent="-361800"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Formal </a:t>
            </a:r>
            <a:r>
              <a:rPr b="1" lang="en-US" sz="2200" spc="-1" strike="noStrike">
                <a:solidFill>
                  <a:srgbClr val="cc3300"/>
                </a:solidFill>
                <a:latin typeface="Palatino Linotype"/>
              </a:rPr>
              <a:t>donor coordination</a:t>
            </a: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 process and </a:t>
            </a:r>
            <a:r>
              <a:rPr b="1" lang="en-US" sz="2200" spc="-1" strike="noStrike">
                <a:solidFill>
                  <a:srgbClr val="cc3300"/>
                </a:solidFill>
                <a:latin typeface="Palatino Linotype"/>
              </a:rPr>
              <a:t>partnership principles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95960" indent="-361800"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Process towards </a:t>
            </a:r>
            <a:r>
              <a:rPr b="1" lang="en-US" sz="2200" spc="-1" strike="noStrike">
                <a:solidFill>
                  <a:srgbClr val="cc3300"/>
                </a:solidFill>
                <a:latin typeface="Palatino Linotype"/>
              </a:rPr>
              <a:t>harmonizing government/donor fiduciary and safeguard processes </a:t>
            </a: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(FM, procurement, env/social)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95960" indent="-361800"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Systematic mechanisms for </a:t>
            </a:r>
            <a:r>
              <a:rPr b="1" lang="en-US" sz="2200" spc="-1" strike="noStrike">
                <a:solidFill>
                  <a:srgbClr val="cc3300"/>
                </a:solidFill>
                <a:latin typeface="Palatino Linotype"/>
              </a:rPr>
              <a:t>stakeholder consultation</a:t>
            </a: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 and </a:t>
            </a:r>
            <a:r>
              <a:rPr b="1" lang="en-US" sz="2200" spc="-1" strike="noStrike">
                <a:solidFill>
                  <a:srgbClr val="cc3300"/>
                </a:solidFill>
                <a:latin typeface="Palatino Linotype"/>
              </a:rPr>
              <a:t>capacity building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87a"/>
                </a:solidFill>
                <a:latin typeface="Palatino Linotype"/>
              </a:rPr>
              <a:t>Possible Links to Financing Modalities</a:t>
            </a:r>
            <a:endParaRPr b="1" lang="en-US" sz="3200" spc="-1" strike="noStrike">
              <a:solidFill>
                <a:srgbClr val="00687a"/>
              </a:solidFill>
              <a:latin typeface="Palatino Linotype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11280" y="2060640"/>
            <a:ext cx="7777080" cy="424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0920" y="6394320"/>
            <a:ext cx="792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Iyer P. et. al. 2006. “Budget Support Primer.”, World Ban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066760"/>
            <a:ext cx="2124000" cy="6426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SWA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Building 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19280" y="2708280"/>
            <a:ext cx="576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19280" y="2708280"/>
            <a:ext cx="5047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19280" y="2781360"/>
            <a:ext cx="50472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19280" y="2781360"/>
            <a:ext cx="5047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19280" y="2781360"/>
            <a:ext cx="504720" cy="32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24720" y="3716280"/>
            <a:ext cx="1619280" cy="9169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Improved predic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7524720" y="436572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84720" y="5451480"/>
            <a:ext cx="2158920" cy="9169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Varying mix of external financ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4645080" y="4436640"/>
            <a:ext cx="50328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148360" y="4437000"/>
            <a:ext cx="503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148360" y="4724280"/>
            <a:ext cx="129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09480" y="1557360"/>
            <a:ext cx="82836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essons from country experiences…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trong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government leadership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essential especially from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and the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Sector ministry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takeholder consultations (with regular fora for joint decisions) help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build confidence and enhance ownership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of the strategies and SIP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Getting the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basics right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is important in each SWAp building block – but need to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start with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what is possible and adapt sequencing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to local country realitie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23:05:23Z</dcterms:created>
  <dc:creator>Addison</dc:creator>
  <dc:description/>
  <dc:language>en-US</dc:language>
  <cp:lastModifiedBy>Vanessa Celosse</cp:lastModifiedBy>
  <cp:lastPrinted>2003-08-13T21:38:48Z</cp:lastPrinted>
  <dcterms:modified xsi:type="dcterms:W3CDTF">2006-08-25T05:13:12Z</dcterms:modified>
  <cp:revision>353</cp:revision>
  <dc:subject/>
  <dc:title>PowerPoint Presentation</dc:title>
</cp:coreProperties>
</file>